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7248-3BF5-4E75-90F8-BB1A265F3E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7C03-2F2B-48AA-A629-38DCAE0D93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6E6-C74D-4817-9015-5FE9088C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0BC-823D-441F-922D-E3D66C32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C3A-34F4-4C3D-8F88-80F6F5C8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94A-F0F4-4A16-BEBD-ED38BDA3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F67-1993-4F0A-AF73-B3CA1AC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0D5-34D6-4C45-B415-4BF9CF5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B88-2889-4222-B096-CBEDA517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AD9-421B-4B3A-B477-ACBD585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CF0-EDF9-4CCB-A98E-AE425462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03E-6109-4351-9882-238FD08A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D15-234C-4D4A-BF9E-929BE6CC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5C3-1D62-4C87-8CBD-222BF70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0F61-1F18-477D-ABA5-ABA523C7C7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Quiz about “ecocide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NASA Goddard Space Flight (under a Creative Commons Licence)</a:t>
            </a: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ecoci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by reading this short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The_Earth_needs_a_good_law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5619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 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Watch the first 5 mins of this TED talk to see if these 4 statements are True or Fals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tedxtalks.ted.com/video/TEDxExeter-Polly-Higgins-Eco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thought that changed Polly’s life was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50 million people already agree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ly says that ecocide is as bad as geno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5 “crimes against peace” were agreed just after World War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: 1) F  2) T  3) T  4) 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? Now watch the rest of the TED talk. As you watch, think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wellbeing of the people” related to the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e destruction of the environment similar to slave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profit” related to “ecocid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ecocide” related to natural jus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1:20:09Z</dcterms:created>
  <dc:creator>Linda Ruas</dc:creator>
  <dc:description/>
  <dc:language>en-US</dc:language>
  <cp:lastModifiedBy>Linda Ruas</cp:lastModifiedBy>
  <dcterms:modified xsi:type="dcterms:W3CDTF">2014-05-27T11:34:07Z</dcterms:modified>
  <cp:revision>4</cp:revision>
  <dc:subject/>
  <dc:title>Quiz about “ecocide”</dc:title>
</cp:coreProperties>
</file>